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14. Mar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8364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623880"/>
                <a:tab algn="r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Wolf 4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UM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1.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Project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5760" y="1103400"/>
            <a:ext cx="8776440" cy="5057640"/>
            <a:chOff x="185760" y="1103400"/>
            <a:chExt cx="8776440" cy="5057640"/>
          </a:xfrm>
        </p:grpSpPr>
        <p:grpSp>
          <p:nvGrpSpPr>
            <p:cNvPr id="89" name=""/>
            <p:cNvGrpSpPr/>
            <p:nvPr/>
          </p:nvGrpSpPr>
          <p:grpSpPr>
            <a:xfrm>
              <a:off x="185760" y="1103400"/>
              <a:ext cx="8776440" cy="4992120"/>
              <a:chOff x="185760" y="1103400"/>
              <a:chExt cx="8776440" cy="4992120"/>
            </a:xfrm>
          </p:grpSpPr>
          <p:sp>
            <p:nvSpPr>
              <p:cNvPr id="90" name=""/>
              <p:cNvSpPr/>
              <p:nvPr/>
            </p:nvSpPr>
            <p:spPr>
              <a:xfrm>
                <a:off x="185760" y="1103400"/>
                <a:ext cx="8776440" cy="4992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0920" y="1103400"/>
                <a:ext cx="8685000" cy="49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36880" y="1149480"/>
              <a:ext cx="8705880" cy="50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720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roduct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irst generation Siemens UMTS mobile phone based on Qualcomm´s MSM6250 chipset.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mium 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mi-automatic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lider design, high quality finishing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ri-band GSM/GPRS, 176 x 220 pixels  2” display, 256k colours, BT interface, video telephony with dedicated CIF camera, 1.3 megapixel camera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S MultiMediaCard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slot,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P3 player, Push and Ta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rojec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L-T:  Hans Becker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PM:  Jörn Watzk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M:  Denis Jeanso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A: Sebastian Kurit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Mileston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0.12.04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1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8.03.05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2.09.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23.12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6.01.05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3.05.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4.11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8.02.05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2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2.07.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6.12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rototype builds over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3.12.04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4.03.04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1+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3.06.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19.08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otal project development costs: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€37.7M (direct 26.6M)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velopment costs FY 04/05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OM target: €125 (€117)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OM actual: €1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Time to market sum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o delays. Project schedule is very tight and dependent on software deliveries from Qualcom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623880"/>
                <a:tab algn="r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Wolf 4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UM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2.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Major Progress and Achie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5760" y="1103400"/>
            <a:ext cx="8776440" cy="5188320"/>
            <a:chOff x="185760" y="1103400"/>
            <a:chExt cx="8776440" cy="5188320"/>
          </a:xfrm>
        </p:grpSpPr>
        <p:grpSp>
          <p:nvGrpSpPr>
            <p:cNvPr id="95" name=""/>
            <p:cNvGrpSpPr/>
            <p:nvPr/>
          </p:nvGrpSpPr>
          <p:grpSpPr>
            <a:xfrm>
              <a:off x="185760" y="1103400"/>
              <a:ext cx="8776440" cy="5188320"/>
              <a:chOff x="185760" y="1103400"/>
              <a:chExt cx="8776440" cy="5188320"/>
            </a:xfrm>
          </p:grpSpPr>
          <p:sp>
            <p:nvSpPr>
              <p:cNvPr id="96" name=""/>
              <p:cNvSpPr/>
              <p:nvPr/>
            </p:nvSpPr>
            <p:spPr>
              <a:xfrm>
                <a:off x="185760" y="1103400"/>
                <a:ext cx="8776440" cy="5188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0920" y="1103400"/>
                <a:ext cx="8685000" cy="518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36880" y="1151280"/>
              <a:ext cx="8705880" cy="36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720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HW-Development (BB, RF, EMC/Anten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A1 evaluation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gave valuable feedback (UMTS receive sensitivity and 1.6Mhz spuriou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latform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eceived first displays, batteries, speaker modu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General Project Management, Quality, Costs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oject </a:t>
              </a: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schedule is on track and committ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by all project le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velopment - and product </a:t>
              </a: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cost optimized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(target for M1: business case improv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oduct is well received by our operators (pre-selected for </a:t>
              </a: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product hero @ Vodafone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1 PCB made </a:t>
              </a: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first calls on 900, 1800 GSM bands and 2100 UMTS band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irst Wolf 4 B1 </a:t>
              </a: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phone sample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will be available within 2 wee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623880"/>
                <a:tab algn="r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Wolf 4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UM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3.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Risks, Problems and Corrective 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5760" y="1103400"/>
            <a:ext cx="8776440" cy="4989960"/>
            <a:chOff x="185760" y="1103400"/>
            <a:chExt cx="8776440" cy="4989960"/>
          </a:xfrm>
        </p:grpSpPr>
        <p:grpSp>
          <p:nvGrpSpPr>
            <p:cNvPr id="101" name=""/>
            <p:cNvGrpSpPr/>
            <p:nvPr/>
          </p:nvGrpSpPr>
          <p:grpSpPr>
            <a:xfrm>
              <a:off x="185760" y="1103400"/>
              <a:ext cx="8776440" cy="4989960"/>
              <a:chOff x="185760" y="1103400"/>
              <a:chExt cx="8776440" cy="4989960"/>
            </a:xfrm>
          </p:grpSpPr>
          <p:sp>
            <p:nvSpPr>
              <p:cNvPr id="102" name=""/>
              <p:cNvSpPr/>
              <p:nvPr/>
            </p:nvSpPr>
            <p:spPr>
              <a:xfrm>
                <a:off x="185760" y="1103400"/>
                <a:ext cx="8776440" cy="498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0920" y="1103400"/>
                <a:ext cx="8685000" cy="49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36880" y="1149480"/>
              <a:ext cx="8705880" cy="40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72000" anchor="t">
              <a:spAutoFit/>
            </a:bodyPr>
            <a:p>
              <a:pPr marL="1787400" indent="-178740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HW-Development (BB, RF, EMC/Anten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isk: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EMC concept of the MMI fl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verity: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high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sible impact: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lf-interference and possibly a time-to-market d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ctions taken: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veral (7) test flex´s defined based on different shielding concepts / different MMI Flex stack up concepts and different materials (Ag paste versus mesh Ra-Cu). Test flex´s ordered from different suppliers (Nitto, Ichia &amp; Care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SW-Development (Platform, Drivers, Tools, U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isk:</a:t>
              </a:r>
              <a:r>
                <a:rPr b="1" lang="de-DE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dependency on Wolf 5 software deliveries from Qual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verity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high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sible impact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eature decrease and possibly a time-to-market d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ctions taken:  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olf 4 and Wolf 5 teams working closely together with Qualcomm to track the situation and define corrective measur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87400" indent="-17874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84240"/>
                  <a:tab algn="l" pos="1787400"/>
                  <a:tab algn="l" pos="3408480"/>
                  <a:tab algn="l" pos="4076640"/>
                  <a:tab algn="l" pos="4756320"/>
                  <a:tab algn="l" pos="5435640"/>
                  <a:tab algn="l" pos="6114960"/>
                  <a:tab algn="l" pos="6794640"/>
                  <a:tab algn="l" pos="7473960"/>
                  <a:tab algn="l" pos="8153280"/>
                  <a:tab algn="l" pos="8832960"/>
                  <a:tab algn="l" pos="9512280"/>
                  <a:tab algn="l" pos="10191600"/>
                  <a:tab algn="l" pos="10871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73160" y="5230800"/>
            <a:ext cx="8140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7999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Rema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roject team is staffed but keeps changing (i.e. All baseband development transferred before M1 from Roke Manor Research to München). New project leads for BB (twice), ST1, ST2, CCQ QM-HW, CCQ-Service and 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5:34:47Z</dcterms:created>
  <dc:creator>Claus Ziegler</dc:creator>
  <dc:description/>
  <dc:language>en-US</dc:language>
  <cp:lastModifiedBy>Schmitz Juergen</cp:lastModifiedBy>
  <cp:lastPrinted>2004-02-29T14:41:19Z</cp:lastPrinted>
  <dcterms:modified xsi:type="dcterms:W3CDTF">2005-03-15T12:37:16Z</dcterms:modified>
  <cp:revision>18</cp:revision>
  <dc:subject/>
  <dc:title>EGL products platform</dc:title>
</cp:coreProperties>
</file>